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6C7-A0CB-445A-A6E8-6A8121A434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ickfire Mental Maths</a:t>
            </a:r>
            <a:br>
              <a:rPr sz="1200"/>
            </a:b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  Estimate the height of the table in c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  The line drawn from the centre to the edge of a circ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  900 ÷ 15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ST ONE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.  Write ten to one in the morning in 24 hr c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check your ANSW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9.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0 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hundredths or 6/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0 cm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£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820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p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/6 or 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cm – 8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.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 in  your exercise boo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19 x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ogether £3.52, £5.00 and 92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I get 6 out of 10 on a spelling test what is this score as a percen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square 4cm by 4 cm now write down it’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perimeter of the squ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 Shade in ¼  of the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0.43 as a 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millilitres in 3 ½ li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 Work out 32 +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 Divide   630   by   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 What is the value of 6 in the number 3.06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 Work out  one tenth of 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 Work out 13 squ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 What is the square root of 36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. Work out  the volume of a cuboid measuring 5cm by 6 cm by 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. How much could I buy £50 trainers fo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. How many centimetres in 68.2 metres 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. Sketch the net of a 2 cm c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E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%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  How many pints in a gall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.  What is one-third plus one-six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  How many lines of symmetry in a      parallelogram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A050-6A9F-4E44-BF2C-8C33BB5F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48E7-EA9A-4870-AD64-E4AC2B11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B82-30CA-4046-B1BA-4097274A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9D4-BD22-463A-9A4B-6761ED1F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BAC-FB86-4D42-85D2-ED03D62E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6C07-A068-4D85-8E69-9985D705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599-348F-498D-B242-47943F21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87DD-0CD9-45E6-9C54-8B1B191F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30F-A8F5-47E1-9FFF-D1C4F342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DBF-2298-49BD-B9D7-09566318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5B30-ED4B-4A2C-9F8B-EB454C0C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ADE-054F-41CE-8074-3D8CFBEE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4440-A2F1-4E4A-958C-8C8B9C303D1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Quickfir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Mental Math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2971800" y="2743200"/>
            <a:ext cx="2666880" cy="18288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417240 h 1828800"/>
              <a:gd name="textAreaBottom" fmla="*/ 141156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0000"/>
                </a:solidFill>
                <a:latin typeface="Comic Sans MS"/>
              </a:rPr>
              <a:t>questions</a:t>
            </a:r>
            <a:endParaRPr b="0" lang="en-US" sz="1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457200" y="762120"/>
            <a:ext cx="822960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2.  Estimate the height of the table in cm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3.  The line drawn from the centre to the edge of a circle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4.  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900 ÷ 15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380880"/>
            <a:ext cx="792468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LAST ONE !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25.  Write ten to one in the morning in 24 hr clock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Comic Sans MS"/>
              </a:rPr>
              <a:t>Now check your ANSWERS</a:t>
            </a: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218960" y="380880"/>
            <a:ext cx="335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9.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 cm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43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500 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 hundredths or 6/1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9.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16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380880"/>
            <a:ext cx="2286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240 cm </a:t>
            </a:r>
            <a:r>
              <a:rPr b="0" lang="en-GB" sz="1800" spc="-1" strike="noStrike" baseline="68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£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820 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Chec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8pi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3/6 or ½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5cm – 85c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Radi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00.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754380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7543800" y="12952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848720" y="1600200"/>
            <a:ext cx="30456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7238880" y="160020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7543800" y="1905120"/>
            <a:ext cx="3049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7543800" y="2209680"/>
            <a:ext cx="3049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ffff00"/>
                </a:solidFill>
                <a:latin typeface="Comic Sans MS"/>
              </a:rPr>
              <a:t>Answer in  your exercise books</a:t>
            </a:r>
            <a:endParaRPr b="0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 flipV="1">
            <a:off x="685800" y="532440"/>
            <a:ext cx="777240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9480" y="6094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ork out 19 x 3 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Add together £3.52, £5.00 and 92p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If I get 6 out of 10 on a spelling test what is this score as a percentag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609480" y="1219320"/>
            <a:ext cx="7543800" cy="54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Draw a square 4cm by 4 cm now write down it’s area.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hat is the perimeter of the square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6.   Shade in </a:t>
            </a: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¼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  of the square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Write 0.43 as a f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How many millilitres in 3 ½ litres 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9.  Work out 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+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3</a:t>
            </a:r>
            <a:r>
              <a:rPr b="0" lang="en-GB" sz="2400" spc="-1" strike="noStrike" baseline="76000">
                <a:solidFill>
                  <a:srgbClr val="ffff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838080" y="1295280"/>
            <a:ext cx="7848720" cy="44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0. Divide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630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  by   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9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1. What is the value of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in the number 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3.0</a:t>
            </a: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2. Work out  one tenth of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 95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333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3. Work out 13 squared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4. What is the square root of 36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5. Work out  the volume of a cuboid measuring 5cm by 6 cm by 8 cm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7" name="AutoShape 3"/>
          <p:cNvSpPr/>
          <p:nvPr/>
        </p:nvSpPr>
        <p:spPr>
          <a:xfrm>
            <a:off x="5791320" y="3429000"/>
            <a:ext cx="2128680" cy="1214280"/>
          </a:xfrm>
          <a:prstGeom prst="cube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685800" y="1143000"/>
            <a:ext cx="8001000" cy="36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6. How much could I buy £50 trainers for?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7. How many centimetres in 68.2 metres ? 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18. Sketch the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net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 of a 2 cm cube.</a:t>
            </a:r>
            <a:endParaRPr b="0" lang="en-US" sz="2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9" name="AutoShape 6"/>
          <p:cNvSpPr/>
          <p:nvPr/>
        </p:nvSpPr>
        <p:spPr>
          <a:xfrm>
            <a:off x="685800" y="533520"/>
            <a:ext cx="3276720" cy="1523880"/>
          </a:xfrm>
          <a:prstGeom prst="cloudCallout">
            <a:avLst>
              <a:gd name="adj1" fmla="val -50194"/>
              <a:gd name="adj2" fmla="val -79166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60033"/>
                </a:solidFill>
                <a:latin typeface="Comic Sans MS"/>
              </a:rPr>
              <a:t>SALE!  </a:t>
            </a:r>
            <a:endParaRPr b="0" lang="en-US" sz="1600" spc="-1" strike="noStrike">
              <a:solidFill>
                <a:srgbClr val="ffff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660033"/>
                </a:solidFill>
                <a:latin typeface="Comic Sans MS"/>
              </a:rPr>
              <a:t>20%</a:t>
            </a:r>
            <a:r>
              <a:rPr b="0" lang="en-GB" sz="2800" spc="-1" strike="noStrike">
                <a:solidFill>
                  <a:srgbClr val="660033"/>
                </a:solidFill>
                <a:latin typeface="Comic Sans MS"/>
              </a:rPr>
              <a:t>OFF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838080"/>
            <a:ext cx="7391520" cy="58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19.  How many pints in a gallon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0.  What is one-third plus one-sixth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21.  How many lines of symmetry in a      parallelogram</a:t>
            </a:r>
            <a:r>
              <a:rPr b="0" lang="en-GB" sz="4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5:02:41Z</dcterms:created>
  <dc:creator>home</dc:creator>
  <dc:description/>
  <dc:language>en-US</dc:language>
  <cp:lastModifiedBy>RomaK</cp:lastModifiedBy>
  <dcterms:modified xsi:type="dcterms:W3CDTF">2015-09-04T07:44:11Z</dcterms:modified>
  <cp:revision>7</cp:revision>
  <dc:subject/>
  <dc:title>Quickfire Mental Maths  </dc:title>
</cp:coreProperties>
</file>